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9FBA-9E34-423C-B993-683602DC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C55-1762-4EFA-ACF1-FC340D81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F0A-3647-4800-94FB-400E27C9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EBA4-DE12-4D6F-B97F-2637673C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254-D495-45AB-BE9D-2675D9EF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23F-2BB3-498A-A0F3-6DB6F284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A0D0-F742-444C-9168-FCFE3A43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8A8-4A75-4BF8-A1F5-844B5B12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A38-E704-46A9-B207-8FADA95F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CDA-A23D-4285-8C4B-DA3BB0C2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0BA-03DD-4946-978D-71665C2B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3C9-48EE-4F99-B8C6-66739B2E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EA26-A3D0-4EF5-9AD1-F5B26141C8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4920" y="1639800"/>
            <a:ext cx="667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 --- like simpl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or leveraged credit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banking system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ed markets --- like transpar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840" y="1639800"/>
            <a:ext cx="598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the future for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vergence with OTC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OTC instruments are beco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oditised --- ie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llateralised --- ie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omated --- ie trans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 like currency fu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760" y="1639800"/>
            <a:ext cx="698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960" y="1639800"/>
            <a:ext cx="887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8% of global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1.2% of global forward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5% of all futures contracts outst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currency futures contracts have been deli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futures exchanges have delisted all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42960" y="446040"/>
          <a:ext cx="7607160" cy="58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46040"/>
                    <a:ext cx="760716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7960" y="15494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182880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828800"/>
            <a:ext cx="17524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41560" y="15238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ia &amp; Rus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1905120"/>
            <a:ext cx="1522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2760" y="3886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952880" y="419112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040" y="1639800"/>
            <a:ext cx="81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 ---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important for CME &amp; B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Latin America, currency futures = 11% of all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639800"/>
            <a:ext cx="69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global in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ocal 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8880" y="1639800"/>
            <a:ext cx="896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are forward FX contr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2 types of forward FX contrac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--- used for currency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--- used for interest rate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rate risk management is more impor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= outright forw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= USD 131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= USD 656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role for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6360" y="1639800"/>
            <a:ext cx="861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ovative contract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Rolling Spot contracts (exchange-traded FX swap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contracts spec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mpts to increase deal size to OTC level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order faciliti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for physical facili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market-makin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5280" y="1639800"/>
            <a:ext cx="764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isation --- inflexible but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aranteed settlement --- inconvenient but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-trading --- transparent but f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22:10:34Z</dcterms:created>
  <dc:creator>Richard Comotto</dc:creator>
  <dc:description/>
  <dc:language>en-US</dc:language>
  <cp:lastModifiedBy>GÜNHAN GÜNEÇ</cp:lastModifiedBy>
  <dcterms:modified xsi:type="dcterms:W3CDTF">2001-11-19T08:03:53Z</dcterms:modified>
  <cp:revision>7</cp:revision>
  <dc:subject/>
  <dc:title>The role of currency futures in global financial markets</dc:title>
</cp:coreProperties>
</file>